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800" y="-504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963600" y="-504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1800" y="881820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3963600" y="881820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3E4FE0D-221D-4575-A3A4-D42F79E5293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860920" y="8840880"/>
            <a:ext cx="12740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79AC00FA-EEE7-4581-A63D-34A2D69C4F45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188720" y="704880"/>
            <a:ext cx="4621320" cy="346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31680" y="440640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C7998F1-B20B-407F-ADA0-87E22CBA56E1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1680" y="440640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4EF6986-7B08-4D57-A6EC-AEBE50939CB8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DB4B0E8-63BB-447C-91EF-48CB633A601A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31D28F0-733B-4FE4-8909-4EA57BF39E41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535D44B-8008-4395-AF43-4328FDD60973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640" y="6566040"/>
            <a:ext cx="18097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23684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460840" y="6564240"/>
            <a:ext cx="36831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870E5CDD-ADB2-4968-A379-F1DAE4801DEF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3496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995400" y="4967280"/>
            <a:ext cx="7313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4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992160" y="7048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23828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292720" y="6564240"/>
            <a:ext cx="3841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1E34B8F6-EB23-455B-B7A3-1D09D79F954D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913320" y="66816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9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M02/M02%20-%20TSP%20overview.ppt" TargetMode="External"/><Relationship Id="rId2" Type="http://schemas.openxmlformats.org/officeDocument/2006/relationships/hyperlink" Target="file:///../M03/M03%20-%20Personal%20Processes.ppt" TargetMode="External"/><Relationship Id="rId3" Type="http://schemas.openxmlformats.org/officeDocument/2006/relationships/hyperlink" Target="file:///../M04/M04%20-%20Planning%201.ppt" TargetMode="External"/><Relationship Id="rId4" Type="http://schemas.openxmlformats.org/officeDocument/2006/relationships/hyperlink" Target="file:///../M05/M05%20Planning%202.ppt" TargetMode="External"/><Relationship Id="rId5" Type="http://schemas.openxmlformats.org/officeDocument/2006/relationships/hyperlink" Target="file:///../M06/M06%20Planning%203.ppt" TargetMode="External"/><Relationship Id="rId6" Type="http://schemas.openxmlformats.org/officeDocument/2006/relationships/hyperlink" Target="file:///../M07/M07Ex%20-%20Baseline%20Checkbook%20Process.ppt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996840" y="985680"/>
            <a:ext cx="731376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0000"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Introduction to Personal Process</a:t>
            </a:r>
            <a:endParaRPr b="0" lang="en-US" sz="3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br>
              <a:rPr sz="2200"/>
            </a:br>
            <a:r>
              <a:rPr b="0" lang="en-US" sz="4500" spc="-1" strike="noStrike">
                <a:solidFill>
                  <a:srgbClr val="39536b"/>
                </a:solidFill>
                <a:latin typeface="Arial Narrow"/>
              </a:rPr>
              <a:t>Module 1: Introduction</a:t>
            </a:r>
            <a:br>
              <a:rPr sz="5400"/>
            </a:b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036800" y="3225960"/>
            <a:ext cx="73152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3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rvice Mark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15840" y="164592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following are service marks of Carnegie Mellon Universit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12840" indent="-1933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sonal Software Process</a:t>
            </a:r>
            <a:r>
              <a:rPr b="0" lang="en-US" sz="2000" spc="-1" strike="noStrike" baseline="50000">
                <a:solidFill>
                  <a:srgbClr val="39536b"/>
                </a:solidFill>
                <a:latin typeface="Arial"/>
              </a:rPr>
              <a:t>SM</a:t>
            </a:r>
            <a:r>
              <a:rPr b="0" lang="en-US" sz="2200" spc="-1" strike="noStrike" baseline="40000">
                <a:solidFill>
                  <a:srgbClr val="39536b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12840" indent="-1933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</a:t>
            </a:r>
            <a:r>
              <a:rPr b="0" lang="en-US" sz="2000" spc="-1" strike="noStrike" baseline="50000">
                <a:solidFill>
                  <a:srgbClr val="39536b"/>
                </a:solidFill>
                <a:latin typeface="Arial"/>
              </a:rPr>
              <a:t>SM</a:t>
            </a:r>
            <a:r>
              <a:rPr b="0" lang="en-US" sz="2200" spc="-1" strike="noStrike" baseline="90000">
                <a:solidFill>
                  <a:srgbClr val="39536b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12840" indent="-1933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Software Process</a:t>
            </a:r>
            <a:r>
              <a:rPr b="0" lang="en-US" sz="2000" spc="-1" strike="noStrike" baseline="50000">
                <a:solidFill>
                  <a:srgbClr val="39536b"/>
                </a:solidFill>
                <a:latin typeface="Arial"/>
              </a:rPr>
              <a:t>SM</a:t>
            </a:r>
            <a:r>
              <a:rPr b="0" lang="en-US" sz="2200" spc="-1" strike="noStrike" baseline="50000">
                <a:solidFill>
                  <a:srgbClr val="39536b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12840" indent="-1933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</a:t>
            </a:r>
            <a:r>
              <a:rPr b="0" lang="en-US" sz="2000" spc="-1" strike="noStrike" baseline="50000">
                <a:solidFill>
                  <a:srgbClr val="39536b"/>
                </a:solidFill>
                <a:latin typeface="Arial"/>
              </a:rPr>
              <a:t>SM</a:t>
            </a:r>
            <a:r>
              <a:rPr b="0" lang="en-US" sz="2200" spc="-1" strike="noStrike" baseline="50000">
                <a:solidFill>
                  <a:srgbClr val="39536b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12840" indent="-1933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following are registered trademarks of Carnegie Mellon University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12840" indent="-1933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pability Maturity Model</a:t>
            </a:r>
            <a:r>
              <a:rPr b="0" lang="en-US" sz="2200" spc="-1" strike="noStrike" baseline="30000">
                <a:solidFill>
                  <a:srgbClr val="39536b"/>
                </a:solidFill>
                <a:latin typeface="Arial"/>
              </a:rPr>
              <a:t>®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12840" indent="-1933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MM</a:t>
            </a:r>
            <a:r>
              <a:rPr b="0" lang="en-US" sz="2200" spc="-1" strike="noStrike" baseline="30000">
                <a:solidFill>
                  <a:srgbClr val="39536b"/>
                </a:solidFill>
                <a:latin typeface="Arial"/>
              </a:rPr>
              <a:t>®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 baseline="90000">
                <a:solidFill>
                  <a:srgbClr val="39536b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12840" indent="-1933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pability Maturity Model Integration</a:t>
            </a:r>
            <a:r>
              <a:rPr b="0" lang="en-US" sz="2200" spc="-1" strike="noStrike" baseline="30000">
                <a:solidFill>
                  <a:srgbClr val="39536b"/>
                </a:solidFill>
                <a:latin typeface="Arial"/>
              </a:rPr>
              <a:t>®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12840" indent="-1933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MMI</a:t>
            </a:r>
            <a:r>
              <a:rPr b="0" lang="en-US" sz="2200" spc="-1" strike="noStrike" baseline="30000">
                <a:solidFill>
                  <a:srgbClr val="39536b"/>
                </a:solidFill>
                <a:latin typeface="Arial"/>
              </a:rPr>
              <a:t>®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 baseline="90000">
                <a:solidFill>
                  <a:srgbClr val="39536b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17360" y="169668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roduc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rse purpo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chedu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troductions and Expecta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tructor(s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job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o you 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job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rse expecta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Purpos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course will introduce you to the Team Software Process (TSP) and Personal Software Process (PSP), disciplined methods for producing quality software in a timely manne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will introduce you to the fundamentals of T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unch purpose and structu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planning and track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of the TSP support too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will give you an overview of the elements of P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cesses, measures, forms, and standar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pplication to you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Schedule - Day 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02960" y="1609200"/>
            <a:ext cx="741348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8:30  -   8:45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Module 1:  Introduction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8:45  -   9:45 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9c2108"/>
                </a:solidFill>
                <a:uFillTx/>
                <a:latin typeface="Arial"/>
                <a:hlinkClick r:id="rId1"/>
              </a:rPr>
              <a:t>Module 2:  The Team Software Process 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9:45  - 10:30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9c2108"/>
                </a:solidFill>
                <a:uFillTx/>
                <a:latin typeface="Arial"/>
                <a:hlinkClick r:id="rId2"/>
              </a:rPr>
              <a:t>Module 3:  Personal Processes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Exercise 3:  Maris’ Checkbook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10:30  - 11:00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Break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11:00  - 12:00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9c2108"/>
                </a:solidFill>
                <a:uFillTx/>
                <a:latin typeface="Arial"/>
                <a:hlinkClick r:id="rId3"/>
              </a:rPr>
              <a:t>Module 4:  Planning I - Measures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Exercise 4:  Size Measure Selection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12:00  -   1:00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Lunch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1:00  -   1:45 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9c2108"/>
                </a:solidFill>
                <a:uFillTx/>
                <a:latin typeface="Arial"/>
                <a:hlinkClick r:id="rId4"/>
              </a:rPr>
              <a:t>Module 5:  Planning II - Estimating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Exercise 5:  Relative Size Measure Table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1:45  -   2:30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9c2108"/>
                </a:solidFill>
                <a:uFillTx/>
                <a:latin typeface="Arial"/>
                <a:hlinkClick r:id="rId5"/>
              </a:rPr>
              <a:t>Module 6:  Planning III - Scheduling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2:30  -   3:00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Break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3:00  -   3:30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Exercise 6:  Scheduling the Book Writing Process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3:30  -   4:30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9c2108"/>
                </a:solidFill>
                <a:uFillTx/>
                <a:latin typeface="Arial"/>
                <a:hlinkClick r:id="rId6"/>
              </a:rPr>
              <a:t>Exercise 7:  The Baseline Checkbook Process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4:30 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End of day 1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Schedule - Day 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02960" y="1736280"/>
            <a:ext cx="741348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8:30  -  9:0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Module 7:  Quality I - Managing Defect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9:00  - 10:0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Module 8:  Reviews and Checklist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Exercise 8:  Review Checklist for the Checkbook Proces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0:00  -  10:30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Break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0:30  -  12:0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Exercise 9:  Using the Revised Checkbook Proces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Module 9:  Quality II - Evolving the Personal Proces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2:00  -   1:0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Lunch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:00  -   2:0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Application:  Building a Personal Process Script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:00  -   2:3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Break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:30  -   3:1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SP Tool Demonstration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3:15  -   3:3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Module 10:  Summary and Course Conclusion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17360" y="1709640"/>
            <a:ext cx="75279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velopment of complex systems relies on the integrated efforts of many disciplines working together as a tea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formance will be governed by the discipline and skills of the team and each of its memb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team using high-quality processes, such as PSP and TSP, will consistently produce the best resul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course prepares you to be a member of such a team. 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2:13:36Z</dcterms:created>
  <dc:creator>Jim Over</dc:creator>
  <dc:description/>
  <cp:keywords/>
  <dc:language>en-US</dc:language>
  <cp:lastModifiedBy>wrn_loc_adm</cp:lastModifiedBy>
  <cp:lastPrinted>2000-01-10T19:53:52Z</cp:lastPrinted>
  <dcterms:modified xsi:type="dcterms:W3CDTF">2018-09-06T00:16:00Z</dcterms:modified>
  <cp:revision>207</cp:revision>
  <dc:subject/>
  <dc:title>No Slide Title</dc:title>
</cp:coreProperties>
</file>